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659563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6600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7731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72640" y="736560"/>
            <a:ext cx="491652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66360" y="4670280"/>
            <a:ext cx="53276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33732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773160" y="933732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6335-E33D-4874-B443-98AE0DF67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73000" y="736560"/>
            <a:ext cx="4916520" cy="3687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70280"/>
            <a:ext cx="53276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773520" y="933768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2003-51CB-41E3-96EB-C4CB7891F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73000" y="736560"/>
            <a:ext cx="4916520" cy="3687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70280"/>
            <a:ext cx="53276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773520" y="933768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FBB-CD29-4EBC-BCD5-D3D9C63E0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73000" y="736560"/>
            <a:ext cx="4916520" cy="3687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70280"/>
            <a:ext cx="53276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773520" y="933768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0135-B091-433D-9AFA-57CF0885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73000" y="736560"/>
            <a:ext cx="4916520" cy="3687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70280"/>
            <a:ext cx="53276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773520" y="933768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482A-37BB-417A-8929-CCC6678E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73000" y="736560"/>
            <a:ext cx="4916520" cy="3687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70280"/>
            <a:ext cx="53276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773520" y="933768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4EC8-90F5-4DA7-849F-D7AEC48E4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73000" y="736560"/>
            <a:ext cx="4916520" cy="3687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70280"/>
            <a:ext cx="53276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773520" y="933768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6FFA-AC8F-422A-AB5F-448015411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73000" y="736560"/>
            <a:ext cx="4916520" cy="3687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70280"/>
            <a:ext cx="53276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773520" y="933768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38A4-E82C-45C0-9390-94828A347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8AE-F4E9-420F-9A30-6D2389A8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618-ED0A-44A3-8F0D-F845945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37F-B435-4B7A-B094-F681BC9D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9FF-52C3-4C28-9CBF-7BAA5916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6BA7-6568-47FE-9040-8E7DD5CB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0D4A-92E7-43C0-AE5E-0A1927D7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A2D7-4C12-49B9-8DA4-753379A5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3EE1-390B-468F-99AC-90F4B2F4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28A2-D9DA-4854-9AD2-843C5724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AF4D-FA51-4C52-B1CC-6FFC5914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DC7A-596A-4EB7-B54F-5229A018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EEB-4D27-4AEC-B922-8FE54D7E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6DA9-09C3-446F-902F-6A28CBFE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FD71-0D16-4059-8B07-3D5D63C4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F109-2D33-45FC-B2E4-F5BD5E4E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5217-DB3A-4528-A6CC-28B02CF6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B222-0F1A-498D-BBB4-CCD02711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A008-CBBF-4129-B244-31A0CEF5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9F8A-0C4C-4B59-AAB8-63D21377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07FB-73FF-4484-AE84-D6FA7A01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1178-3723-447F-974B-65D1BB5E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3172-224E-44A2-95A4-04043DBD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F39-67FE-4A90-9A02-D88758D7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7B44-085B-419E-B2A8-AD8D8AEE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C786-A44A-46C7-A06E-8519F686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1BD0-4EAD-4850-B762-69010628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8319-6E33-412C-BC3C-1B2F5D81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13BC3-BF9D-4CF9-BB74-8D62954A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289E-ABD6-4438-B2B8-9F021C0B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38FB9-FA07-4824-B3B0-52E37137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D9D-A68E-4B34-90F5-53A2F77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5D6-B0A3-49F7-B7D4-600E4D3B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122-A1BE-4587-B465-20916029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673-87F8-4CAA-A5D6-F6AE924C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2FB-78D1-482E-943A-E2F58200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826-6906-44E6-828A-1E68DE85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1E26-C443-4BDD-BB4B-6F6659E23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81AD-562E-426D-BC56-7C19C1FA817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51DD-6DFC-40C3-8554-4C1F77D2E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34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INVENTARI DE REFERÈNCIA D’EMISSIONS</a:t>
            </a: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2005</a:t>
            </a:r>
            <a:br>
              <a:rPr sz="3200"/>
            </a:b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ORDIS (ALT EMPORD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834920" y="2707920"/>
            <a:ext cx="6049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2000" y="547560"/>
            <a:ext cx="6842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El 2005, el municipi d’Ordis va emetre 1.707,92 tn de CO2, que representen el 0,19% del conjunt de la comarca. Les emissions van ser de 4,92 tn CO2/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capita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, inferior a les emissions 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per capita 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de la comarca, que varen ser de 7,43 tn CO2/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capita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, i a les del conjunt de les comarques gironines, que varen ser de 6,44 tn CO2/</a:t>
            </a:r>
            <a:r>
              <a:rPr b="0" i="1" lang="ca-ES" sz="1400" spc="-1" strike="noStrike">
                <a:solidFill>
                  <a:srgbClr val="000000"/>
                </a:solidFill>
                <a:latin typeface="Arial"/>
              </a:rPr>
              <a:t>capita</a:t>
            </a:r>
            <a:r>
              <a:rPr b="0" lang="ca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0" t="0" r="0" b="6852"/>
          <a:stretch/>
        </p:blipFill>
        <p:spPr>
          <a:xfrm>
            <a:off x="971640" y="1773360"/>
            <a:ext cx="9505800" cy="2139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050920" y="4292640"/>
            <a:ext cx="57531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09680" y="404280"/>
            <a:ext cx="54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Inventari de referència d’emissions: àmbit Ajuntament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0080" y="907560"/>
            <a:ext cx="38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Emissions generades a l’àmbit Ajuntament (tn CO2)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4960" y="3573000"/>
            <a:ext cx="26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Arial"/>
              </a:rPr>
              <a:t>Consum per fonts d’energia (MW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00360" y="4005360"/>
          <a:ext cx="4319640" cy="242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005360"/>
                    <a:ext cx="4319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987640" y="1268280"/>
            <a:ext cx="30956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7760" y="404280"/>
            <a:ext cx="69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Inventari de referència d’emissions: edificis / equipaments municipals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79720" y="816840"/>
            <a:ext cx="36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issions generades als edificis públics (tn CO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0640" y="3357360"/>
            <a:ext cx="31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 per fonts d’energia (equipaments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5879" t="5988" r="35293" b="23230"/>
          <a:stretch/>
        </p:blipFill>
        <p:spPr>
          <a:xfrm>
            <a:off x="3419640" y="1219320"/>
            <a:ext cx="2950920" cy="2065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7264" t="28132" r="10895" b="29057"/>
          <a:stretch/>
        </p:blipFill>
        <p:spPr>
          <a:xfrm>
            <a:off x="1403280" y="4005360"/>
            <a:ext cx="279072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rcRect l="7264" t="77681" r="10895" b="3363"/>
          <a:stretch/>
        </p:blipFill>
        <p:spPr>
          <a:xfrm>
            <a:off x="1260360" y="5310360"/>
            <a:ext cx="2791080" cy="590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211640" y="3597120"/>
            <a:ext cx="49323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08960" y="404280"/>
            <a:ext cx="54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Inventari de referència d’emissions: enllumenat públic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00000" y="1125360"/>
          <a:ext cx="7201080" cy="371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125360"/>
                    <a:ext cx="720108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39920" y="475920"/>
            <a:ext cx="29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Producció local d’electricitat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5883480" cy="8531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34280" y="1267560"/>
            <a:ext cx="653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El factor d'emissió per a l'electricitat de 2005 és comú a la península: 0,481 MWh/tn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Arial"/>
              </a:rPr>
              <a:t>El factor d'emissió per a l'electricitat de 2011 pel municipi d'Ordis és: 0 MWh/tn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36680" y="475920"/>
            <a:ext cx="31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000000"/>
                </a:solidFill>
                <a:latin typeface="Arial"/>
              </a:rPr>
              <a:t>Accions realitzades 2005-2012</a:t>
            </a:r>
            <a:r>
              <a:rPr b="0" lang="ca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763960" cy="4491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77080" y="4005360"/>
            <a:ext cx="647640" cy="287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292640"/>
            <a:ext cx="0" cy="1657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6021360"/>
            <a:ext cx="647640" cy="287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8160" y="602136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Arial"/>
              </a:rPr>
              <a:t>26,0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1:25:20Z</dcterms:created>
  <dc:creator>Krista</dc:creator>
  <dc:description/>
  <dc:language>en-US</dc:language>
  <cp:lastModifiedBy>acamp</cp:lastModifiedBy>
  <dcterms:modified xsi:type="dcterms:W3CDTF">2013-01-30T15:54:43Z</dcterms:modified>
  <cp:revision>77</cp:revision>
  <dc:subject/>
  <dc:title>Slide 1</dc:title>
</cp:coreProperties>
</file>